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B0BB-BDA4-4F63-97E6-9A9345F4F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D439-DCE5-4357-A32E-F0C8F2AA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B3D4-EA58-44F7-A25D-2BA079EA5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6426-0706-4291-B26A-C2343682C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549B-FCB2-4840-B59F-77838EDA8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402B-322B-4A56-9900-61F64067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1719-849C-4C0E-B02A-C783E25D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A469E-43A4-4628-B52E-2CC8AD87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E189-4ED2-40E5-9F1B-1754F6DD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62567-32AA-4C76-9695-B712B4C4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4CA6A-C370-4ED2-A4B5-9092EFB2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42D7-C6A4-4FD1-96FA-7A56074B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8750-6CB9-4F27-A60D-B667769F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E5695-EA22-4E88-99ED-B73B8304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F90A3-1D0D-44E6-BB78-1C00A765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3874-5382-464F-8371-B25E2EEE0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0D43F-DD40-402F-8AFD-C945A139B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3EEC-1ECD-4DE2-A6CD-E7E73ED7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F61A-85AB-46E3-A184-7EAC9DCC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193A-4E08-4F8C-8988-F60BFAD7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79BE-0D2B-45A8-A4A1-4EA739E2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ABFC-3BEB-4913-9BC6-09EC8377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A220-C683-42C8-949A-14567B26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7AE6-A4BB-431D-B49B-F79ABDE2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EFB7-BD71-409B-97B5-4978391F63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C52C-FADD-4694-86D0-4B191BC4BB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angling Spo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angling Spo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e a spoon on a string so it is in a “V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4267080" y="4191120"/>
            <a:ext cx="152640" cy="99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5181480"/>
            <a:ext cx="15264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4343400" y="2895480"/>
            <a:ext cx="1219320" cy="22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3048120" y="2971800"/>
            <a:ext cx="1295280" cy="220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angling Spo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wing the spoon so it hits the table/des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4267080" y="4191120"/>
            <a:ext cx="152640" cy="99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67080" y="5181480"/>
            <a:ext cx="15264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343400" y="2895480"/>
            <a:ext cx="1219320" cy="22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3048120" y="2971800"/>
            <a:ext cx="1295280" cy="220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angling Spo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Wind the string around a finger on each hand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DICT—How will what you hear change when you bang it on the desk/table now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4191120"/>
            <a:ext cx="152640" cy="99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5181480"/>
            <a:ext cx="15264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343400" y="2895480"/>
            <a:ext cx="1219320" cy="22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3048120" y="2971800"/>
            <a:ext cx="1295280" cy="220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angling Spo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writing your PREDICTION, try 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4191120"/>
            <a:ext cx="152640" cy="99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67080" y="5181480"/>
            <a:ext cx="15264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343400" y="2895480"/>
            <a:ext cx="1219320" cy="22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3048120" y="2971800"/>
            <a:ext cx="1295280" cy="220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angling Spo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ite what you think happened to the sou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4191120"/>
            <a:ext cx="152640" cy="99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5181480"/>
            <a:ext cx="15264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343400" y="2895480"/>
            <a:ext cx="1219320" cy="22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3048120" y="2971800"/>
            <a:ext cx="1295280" cy="220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00:00:48Z</dcterms:created>
  <dc:creator>Ed Robeck</dc:creator>
  <dc:description/>
  <dc:language>en-US</dc:language>
  <cp:lastModifiedBy>Ed Robeck</cp:lastModifiedBy>
  <dcterms:modified xsi:type="dcterms:W3CDTF">2008-04-16T00:21:29Z</dcterms:modified>
  <cp:revision>2</cp:revision>
  <dc:subject/>
  <dc:title>Dangling Spoons</dc:title>
</cp:coreProperties>
</file>